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jpeg" ContentType="image/jpeg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7.gif" ContentType="image/gif"/>
  <Override PartName="/ppt/media/image8.jpeg" ContentType="image/jpeg"/>
  <Override PartName="/ppt/media/image9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7F7C-2C71-477D-BE04-A07AB06D7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68A9-E7F0-446D-9350-1BECEF2F3081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CB92-55DB-408D-A4EF-232366A3C963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9023-5424-4970-914A-653474AE45BC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D207-D444-41D0-ABC5-DBA2EFEF154E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83C4-BE84-47EC-8086-A878351442D1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DCB7-A62F-4915-B5C1-FDD6D16ED544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8756-3C06-4477-881C-EB72837BC391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CC57-20D0-4AE0-8BD1-4142E1FE5E7E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8166-EFE3-4B09-9449-6B251D33D021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818A-6B7F-436B-B54E-8EA73BC1E10A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3B21-A813-42BC-9DF7-72DC690C852B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D519-3AE2-4DE2-8CAE-5FCDF35EE379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4A14-4BCF-4025-8F6B-7598774429EE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7AE2-978F-47FA-BC05-DE33DB97B6A9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F10-A656-45A2-AE1F-D4E68468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648-F264-4548-BC2F-CE3B1681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13D-ABB9-4E41-B6FA-C4497FC3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508-4547-4A38-9AB9-E617F370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5BF5-2785-4397-9317-FFE52356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084F-1475-458A-8314-E544537D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A5FD-5E00-44C6-9F46-ADFC784C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D8DB-E175-4639-85DF-5723194A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EEE1-A9C8-42AD-814C-9E7573E7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AD4A-2B8E-48F6-98EC-3D8ED8BF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B052-74FD-40F8-B82B-93936D05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273B-D551-473B-A497-54E23B28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69AA-489E-452E-B2D3-08E0FE49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782E-9D96-421E-8F63-C0E1C596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A117-0687-43A8-890A-F464A54D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3B6C-3AFA-45D5-9C33-017B0C9F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403C-DD24-4193-B1E6-76A12BED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8F7C1-BF6C-4641-A934-3BD60A7E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31E9A-3E1D-4B56-B55E-1380D25E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3A218-931E-4263-9C9E-2246CABC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FB43-1A4F-41BA-84C0-BA1D46FF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CCFC2-DDFA-46BA-836F-C7AB1A56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448-9ACC-4CDD-9395-D6A51330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58AA7-2BC1-4C97-8147-AD572BD6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8B301-583D-4025-90B7-C723C8EC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605A7-981B-4C87-8723-384B0F05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5381E-DE2E-4AE1-98AB-004355DE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1B87-1231-4817-82F8-3C23020C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EFD45-6DBF-45FC-8037-56160743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07CBA-BCEA-402D-8BC2-9DAAEF9E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766-2269-4253-BB00-867BD9B4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B98-0388-48E1-947F-67FBB7B8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FFE-CA2D-4EFA-87A5-0BF68852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3D7-F825-4CEB-B8E6-3817291F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36C-08CD-4190-A9D8-1072CF0E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87F0-B2EE-407A-9099-DE53C6B9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ABD0-B775-4F75-9579-C78C564F6A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F747-FC54-4433-9767-E93A660869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3F41-4FB7-4B73-BE0E-76DF16544E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4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1102"/>
                </a:solidFill>
                <a:latin typeface="Arial"/>
              </a:rPr>
              <a:t>The Bill of Rights</a:t>
            </a:r>
            <a:br>
              <a:rPr sz="3200"/>
            </a:br>
            <a:r>
              <a:rPr b="1" lang="en-US" sz="2400" spc="-1" strike="noStrike">
                <a:solidFill>
                  <a:srgbClr val="2c1102"/>
                </a:solidFill>
                <a:latin typeface="Arial"/>
              </a:rPr>
              <a:t>The First 10 Amendments to the Constitution</a:t>
            </a:r>
            <a:endParaRPr b="1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Take notes on the slides as they appear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Draw pictures to represent at least five of the amendments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136" name="Picture 5" descr="Bill-of-Rights-Posters"/>
          <p:cNvPicPr/>
          <p:nvPr/>
        </p:nvPicPr>
        <p:blipFill>
          <a:blip r:embed="rId1"/>
          <a:stretch/>
        </p:blipFill>
        <p:spPr>
          <a:xfrm>
            <a:off x="4761000" y="1981080"/>
            <a:ext cx="3584520" cy="4038840"/>
          </a:xfrm>
          <a:prstGeom prst="rect">
            <a:avLst/>
          </a:prstGeom>
          <a:ln w="9360">
            <a:solidFill>
              <a:srgbClr val="2c1102"/>
            </a:solidFill>
            <a:miter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4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70" name="Footer Placeholder 5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6th Amendmen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809360"/>
            <a:ext cx="4038840" cy="451476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6th Amendment </a:t>
            </a:r>
            <a:r>
              <a:rPr b="0" lang="en-US" sz="2000" spc="-1" strike="noStrike">
                <a:solidFill>
                  <a:srgbClr val="2c1102"/>
                </a:solidFill>
                <a:latin typeface="Comic Sans MS"/>
              </a:rPr>
              <a:t>guarantees a speedy trial (you can</a:t>
            </a: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2c1102"/>
                </a:solidFill>
                <a:latin typeface="Comic Sans MS"/>
              </a:rPr>
              <a:t>t be kept in jail for over a year without a trial)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2c1102"/>
                </a:solidFill>
                <a:latin typeface="Comic Sans MS"/>
              </a:rPr>
              <a:t>an impartial jury (doesn</a:t>
            </a: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2c1102"/>
                </a:solidFill>
                <a:latin typeface="Comic Sans MS"/>
              </a:rPr>
              <a:t>t already think you are guilty)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Comic Sans MS"/>
              </a:rPr>
              <a:t>that the accused can confront witnesses against them 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Comic Sans MS"/>
              </a:rPr>
              <a:t>the accused must be allowed to have a lawyer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173" name="Picture 5" descr="jail"/>
          <p:cNvPicPr/>
          <p:nvPr/>
        </p:nvPicPr>
        <p:blipFill>
          <a:blip r:embed="rId1"/>
          <a:stretch/>
        </p:blipFill>
        <p:spPr>
          <a:xfrm>
            <a:off x="4800600" y="2133720"/>
            <a:ext cx="3809880" cy="3606840"/>
          </a:xfrm>
          <a:prstGeom prst="rect">
            <a:avLst/>
          </a:prstGeom>
          <a:ln w="9360">
            <a:solidFill>
              <a:srgbClr val="2c1102"/>
            </a:solidFill>
            <a:miter/>
          </a:ln>
        </p:spPr>
      </p:pic>
    </p:spTree>
  </p:cSld>
  <p:transition spd="slow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7th Amendmen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e 7th Amendment guarantees the right to a speedy civil trial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A civil trial differs from a criminal trial. A civil trial is when someone sues someone else. A criminal trial is when the state tries to convict someone of a crime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4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79" name="Footer Placeholder 5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8th Amendmen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8th Amendment </a:t>
            </a: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guarantees that punishments will be fair and not cruel, and that extraordinarily large fines will not be set.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182" name="Picture 5" descr="elec_chair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151080"/>
          </a:xfrm>
          <a:prstGeom prst="rect">
            <a:avLst/>
          </a:prstGeom>
          <a:ln w="9360">
            <a:solidFill>
              <a:srgbClr val="2c1102"/>
            </a:solidFill>
            <a:miter/>
          </a:ln>
        </p:spPr>
      </p:pic>
    </p:spTree>
  </p:cSld>
  <p:transition spd="slow"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9th Amendmen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All rights not stated in the Constitution and not forbidden by the Constitution belong to the people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This means that the states can do what they want if the Constitution does not forbid it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10th Amendmen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0th Amendment </a:t>
            </a:r>
            <a:r>
              <a:rPr b="0" lang="en-US" sz="3200" spc="-1" strike="noStrike">
                <a:solidFill>
                  <a:srgbClr val="2c1102"/>
                </a:solidFill>
                <a:latin typeface="Comic Sans MS"/>
              </a:rPr>
              <a:t>states that any power not granted to the federal government belongs to the states or to the people.  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1st Amendmen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680" y="1809360"/>
            <a:ext cx="7772400" cy="451476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000080"/>
                </a:solidFill>
                <a:latin typeface="Comic Sans MS"/>
              </a:rPr>
              <a:t>1st Amendment </a:t>
            </a:r>
            <a:r>
              <a:rPr b="0" lang="en-US" sz="2400" spc="-1" strike="noStrike">
                <a:solidFill>
                  <a:srgbClr val="2c1102"/>
                </a:solidFill>
                <a:latin typeface="Comic Sans MS"/>
              </a:rPr>
              <a:t>guarantees freedom of religion, speech, the press, assembly, and petition. 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Comic Sans MS"/>
              </a:rPr>
              <a:t>This means that we all have the right to: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Comic Sans MS"/>
              </a:rPr>
              <a:t>practice any religion we want to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c1102"/>
                </a:solidFill>
                <a:latin typeface="Comic Sans MS"/>
              </a:rPr>
              <a:t>to speak freely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Comic Sans MS"/>
              </a:rPr>
              <a:t>to assemble (meet)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Comic Sans MS"/>
              </a:rPr>
              <a:t>to address the government (petition)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Comic Sans MS"/>
              </a:rPr>
              <a:t>to publish newspapers, TV, radio, Internet (press) 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6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42" name="Footer Placeholder 7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1600200" y="4267080"/>
            <a:ext cx="1368360" cy="1981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eastersunBg"/>
          <p:cNvPicPr/>
          <p:nvPr/>
        </p:nvPicPr>
        <p:blipFill>
          <a:blip r:embed="rId2"/>
          <a:stretch/>
        </p:blipFill>
        <p:spPr>
          <a:xfrm>
            <a:off x="3543480" y="2000160"/>
            <a:ext cx="1981080" cy="1944720"/>
          </a:xfrm>
          <a:prstGeom prst="rect">
            <a:avLst/>
          </a:prstGeom>
          <a:ln w="9360">
            <a:solidFill>
              <a:srgbClr val="2c1102"/>
            </a:solidFill>
            <a:miter/>
          </a:ln>
        </p:spPr>
      </p:pic>
      <p:pic>
        <p:nvPicPr>
          <p:cNvPr id="146" name="Picture 10" descr="islam"/>
          <p:cNvPicPr/>
          <p:nvPr/>
        </p:nvPicPr>
        <p:blipFill>
          <a:blip r:embed="rId3"/>
          <a:stretch/>
        </p:blipFill>
        <p:spPr>
          <a:xfrm>
            <a:off x="6248520" y="2057400"/>
            <a:ext cx="1406520" cy="1433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starofdavid1"/>
          <p:cNvPicPr/>
          <p:nvPr/>
        </p:nvPicPr>
        <p:blipFill>
          <a:blip r:embed="rId4"/>
          <a:stretch/>
        </p:blipFill>
        <p:spPr>
          <a:xfrm>
            <a:off x="838080" y="198108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assembly"/>
          <p:cNvPicPr/>
          <p:nvPr/>
        </p:nvPicPr>
        <p:blipFill>
          <a:blip r:embed="rId5"/>
          <a:stretch/>
        </p:blipFill>
        <p:spPr>
          <a:xfrm>
            <a:off x="4343400" y="4343400"/>
            <a:ext cx="2641680" cy="1981080"/>
          </a:xfrm>
          <a:prstGeom prst="rect">
            <a:avLst/>
          </a:prstGeom>
          <a:ln w="9360">
            <a:solidFill>
              <a:srgbClr val="2c1102"/>
            </a:solidFill>
            <a:miter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4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50" name="Footer Placeholder 5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2nd Amendmen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3809880" cy="474336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nd Amendment </a:t>
            </a: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protects the right to bear arms, which means the right to own a gun. 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153" name="Picture 9" descr="Second-Amendment-Posters"/>
          <p:cNvPicPr/>
          <p:nvPr/>
        </p:nvPicPr>
        <p:blipFill>
          <a:blip r:embed="rId1"/>
          <a:stretch/>
        </p:blipFill>
        <p:spPr>
          <a:xfrm>
            <a:off x="5105520" y="1676520"/>
            <a:ext cx="2957400" cy="4591080"/>
          </a:xfrm>
          <a:prstGeom prst="rect">
            <a:avLst/>
          </a:prstGeom>
          <a:ln w="9360">
            <a:solidFill>
              <a:srgbClr val="2c1102"/>
            </a:solidFill>
            <a:miter/>
          </a:ln>
        </p:spPr>
      </p:pic>
    </p:spTree>
  </p:cSld>
  <p:transition spd="slow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3rd Amendmen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e 3rd Amendment says “No soldier shall, in time of peace be quartered in any house, without the consent of the owner, nor in time of war, but in a manner to be prescribed by law.”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s means that we cannot be forced to house or quarter soldiers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4th Amendmen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th Amendment </a:t>
            </a: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protects the people from unreasonable searches and seizures.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This means that the police must have a warrant to enter our homes. It also  means the government cannot take our property, papers, or us, without a valid warrant based on probable cause (good reason).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warrant1"/>
          <p:cNvPicPr/>
          <p:nvPr/>
        </p:nvPicPr>
        <p:blipFill>
          <a:blip r:embed="rId1"/>
          <a:stretch/>
        </p:blipFill>
        <p:spPr>
          <a:xfrm>
            <a:off x="114480" y="762120"/>
            <a:ext cx="4228920" cy="5298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search"/>
          <p:cNvPicPr/>
          <p:nvPr/>
        </p:nvPicPr>
        <p:blipFill>
          <a:blip r:embed="rId2"/>
          <a:stretch/>
        </p:blipFill>
        <p:spPr>
          <a:xfrm>
            <a:off x="4343400" y="1066680"/>
            <a:ext cx="4648320" cy="3116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1447920" y="0"/>
            <a:ext cx="6045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5th Amendmen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5th Amendment </a:t>
            </a: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protects people from being held for committing a crime unless they are properly indicted, (accused)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You may not be tried twice for the same crime (double jeopardy)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c110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You don</a:t>
            </a: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c1102"/>
                </a:solidFill>
                <a:latin typeface="Comic Sans MS"/>
              </a:rPr>
              <a:t>t have to testify against yourself in court. (Self-incrimination)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5:27:39Z</dcterms:created>
  <dc:creator>Madison Middle School</dc:creator>
  <dc:description/>
  <dc:language>en-US</dc:language>
  <cp:lastModifiedBy>Mt. Healthy City School Distric</cp:lastModifiedBy>
  <dcterms:modified xsi:type="dcterms:W3CDTF">2015-04-13T12:20:39Z</dcterms:modified>
  <cp:revision>39</cp:revision>
  <dc:subject/>
  <dc:title>PowerPoint Presentation  -  The Bill of Rights The First 10 Amendments to the Constitution</dc:title>
</cp:coreProperties>
</file>